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lick to move the slide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7B93-B138-4A47-BDBB-3E0750FFB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tory:   “Before they knew what was going on, they had broken into another enormous cavern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6D19-A0D3-40E7-9012-D6051E01B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tory “Before they could geth their bearings, the escape routes had filled with water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C5F2-646D-492E-8D62-07A7AB17D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tory:  “The air was pressurized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944D-B071-4F47-A89F-DB491E892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tory:   “It was a bleak though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7635-99D9-4147-BD86-6CC60C399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tory:   “The delay had been agoniz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02EA-798E-4B3F-89CA-6FAFD7827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tory:   “But the medical exams were irrelevant compared to the reunions that were going o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63E0-2C31-48C1-BE3F-BBB264BDE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tory “The miners emerged from the caver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82DE-8F82-4688-A01E-ED1561149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FE9B-8E12-41D0-9BBA-6D709151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4F1-5D06-4544-87B2-F15690BA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002-89F6-462C-8FFB-C3C7E8A8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C41-DB48-4334-95A7-02E896E7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FA5E-D6F0-45EB-9E0F-D8F37EB7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149F-3680-40F6-B156-D608EFF6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8B0A-AAC6-4060-B1FD-A718C827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757D-E6B8-4DB5-B3CB-335EDD1A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4C57-893E-4C0E-BC0C-C9EE1FB7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B190-D74F-4C51-BAED-7E134062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C8EF-5216-4B98-B7F6-CDBBA3E4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41D-A049-4733-AD6B-C012C7A8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ADC6-8E44-43EB-B513-3178B034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0918-F524-449E-842E-83FAE816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15CF-99AA-4333-BE34-B10503E8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F2AF-4821-4E39-807E-2D57CE75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8A83-0C4C-4AFC-90FD-89D93D29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A3AA-370B-4054-82B3-FA459A87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22754-201F-43AC-8C17-08CF286A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42741-3CE7-408B-AB17-7E79C6F9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3E8C5-6FF4-4E81-B31F-72D17D9E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F3FC-3F3A-4336-8FD6-EA10B9DA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4EC-5223-4DCB-A948-AEC2F6D1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CFD02-3074-487B-9315-796C80DE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E1D88-35C9-43E1-A763-62119A3A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9051-C055-45A5-9821-CAAA68B9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71F02-82C7-4B3A-A36A-2DCE3618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592D9-70AE-46DC-9634-144B6C68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39BF2-D9B1-4474-9097-DE750058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EF1E3-27B2-4A67-BDED-9BD7825C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376-56DD-4373-B599-C1ED4FA8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E82-BEC2-4013-83C7-1BE5633A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A4D-5C54-4B80-BFA4-C89820FD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41F-1869-4BD1-A176-DDF350FB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1B2-5703-4B17-9CBF-71896D0E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AE9-75F9-4239-8E02-5ED74AFD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8191440" y="6229440"/>
            <a:ext cx="95256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Click to edit the outline text format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1" marL="653760" indent="-2512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con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2" marL="1005840" indent="-2008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Thir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3" marL="1407960" indent="-2008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our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4" marL="1810440" indent="-200880">
              <a:spcBef>
                <a:spcPts val="1001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if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ix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ven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8926-44FC-4713-A348-91C76CC8E6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"/>
          <p:cNvPicPr/>
          <p:nvPr/>
        </p:nvPicPr>
        <p:blipFill>
          <a:blip r:embed="rId4"/>
          <a:stretch/>
        </p:blipFill>
        <p:spPr>
          <a:xfrm>
            <a:off x="0" y="6705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"/>
          <p:cNvPicPr/>
          <p:nvPr/>
        </p:nvPicPr>
        <p:blipFill>
          <a:blip r:embed="rId5"/>
          <a:stretch/>
        </p:blipFill>
        <p:spPr>
          <a:xfrm>
            <a:off x="0" y="9216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"/>
          <p:cNvPicPr/>
          <p:nvPr/>
        </p:nvPicPr>
        <p:blipFill>
          <a:blip r:embed="rId6"/>
          <a:stretch/>
        </p:blipFill>
        <p:spPr>
          <a:xfrm>
            <a:off x="8991720" y="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1" descr=""/>
          <p:cNvPicPr/>
          <p:nvPr/>
        </p:nvPicPr>
        <p:blipFill>
          <a:blip r:embed="rId7"/>
          <a:stretch/>
        </p:blipFill>
        <p:spPr>
          <a:xfrm>
            <a:off x="228600" y="6248520"/>
            <a:ext cx="10382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8191440" y="6229440"/>
            <a:ext cx="952560" cy="62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4"/>
          <a:stretch/>
        </p:blipFill>
        <p:spPr>
          <a:xfrm>
            <a:off x="0" y="6705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5"/>
          <a:stretch/>
        </p:blipFill>
        <p:spPr>
          <a:xfrm>
            <a:off x="0" y="9216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6"/>
          <a:stretch/>
        </p:blipFill>
        <p:spPr>
          <a:xfrm>
            <a:off x="8991720" y="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7"/>
          <a:stretch/>
        </p:blipFill>
        <p:spPr>
          <a:xfrm>
            <a:off x="228600" y="6248520"/>
            <a:ext cx="1038240" cy="457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Click to edit the outline text format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1" marL="653760" indent="-2512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con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2" marL="1005840" indent="-2008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Thir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3" marL="1407960" indent="-2008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our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4" marL="1810440" indent="-200880">
              <a:spcBef>
                <a:spcPts val="1001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if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ix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ven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eece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D7F0-1661-43E5-A89F-6EE8FC844799}" type="slidenum">
              <a:rPr b="0" lang="en-US" sz="1600" spc="-1" strike="noStrike">
                <a:solidFill>
                  <a:srgbClr val="eeece1"/>
                </a:solidFill>
                <a:latin typeface="Brush Script MT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8191440" y="6229440"/>
            <a:ext cx="952560" cy="62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4"/>
          <a:stretch/>
        </p:blipFill>
        <p:spPr>
          <a:xfrm>
            <a:off x="0" y="6705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5"/>
          <a:stretch/>
        </p:blipFill>
        <p:spPr>
          <a:xfrm>
            <a:off x="0" y="9216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6"/>
          <a:stretch/>
        </p:blipFill>
        <p:spPr>
          <a:xfrm>
            <a:off x="8991720" y="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7"/>
          <a:stretch/>
        </p:blipFill>
        <p:spPr>
          <a:xfrm>
            <a:off x="228600" y="6248520"/>
            <a:ext cx="103824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User\Local Settings\Temporary Internet Files\Content.IE5\STEB01UR\MCj04348230000[1].png"/>
          <p:cNvPicPr/>
          <p:nvPr/>
        </p:nvPicPr>
        <p:blipFill>
          <a:blip r:embed="rId8"/>
          <a:stretch/>
        </p:blipFill>
        <p:spPr>
          <a:xfrm>
            <a:off x="8305920" y="6095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Click to edit the outline text format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1" marL="653760" indent="-2512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con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2" marL="1005840" indent="-2008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Thir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3" marL="1407960" indent="-2008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our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4" marL="1810440" indent="-200880">
              <a:spcBef>
                <a:spcPts val="1001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if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ix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ven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78AC-54CA-4037-9011-EAC39775AECD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"The Coal Mine Disaster"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Lucida Calligraphy"/>
              </a:rPr>
              <a:t>By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Lucida Calligraphy"/>
              </a:rPr>
              <a:t>Michael Dahlie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Your task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	</a:t>
            </a:r>
            <a:r>
              <a:rPr b="0" lang="en-US" sz="5400" spc="-1" strike="noStrike">
                <a:solidFill>
                  <a:srgbClr val="f2f2f2"/>
                </a:solidFill>
                <a:latin typeface="Brush Script MT"/>
              </a:rPr>
              <a:t>With your partner, learn the definitions and be ready to use the word in a sentence.</a:t>
            </a:r>
            <a:endParaRPr b="0" lang="en-US" sz="54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1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al Mine Disas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A881-3A2E-4E51-8C96-D067FA4278FD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This week's words and phrases: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cavern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“</a:t>
            </a: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get your bearings”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ingenious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pressurized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bleak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agonizing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irrelevant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1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al Mine Disas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5863-2A33-420B-B2D1-EA7E7E84C213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This week's words and phrases: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cavern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“</a:t>
            </a: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get your bearings”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ingenious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pressurized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bleak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agonizing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irrelevant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1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al Mine Disas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EEA9-121E-490F-99F2-EB3F3EB6CEB3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avern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ookman Old Style"/>
              </a:rPr>
              <a:t>a large deep cave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4587-F2EC-44DA-86E0-70C632817BA7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1,Underground-At-Kents-Cavern,P1070608.jpg"/>
          <p:cNvPicPr/>
          <p:nvPr/>
        </p:nvPicPr>
        <p:blipFill>
          <a:blip r:embed="rId1"/>
          <a:stretch/>
        </p:blipFill>
        <p:spPr>
          <a:xfrm>
            <a:off x="2971800" y="2438280"/>
            <a:ext cx="482616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"get your bearings"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ookman Old Style"/>
              </a:rPr>
              <a:t>a phrase that means to find out where you are or what you will do next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6869-CE55-43F5-828F-4D2B11C6FD9E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bearings.jpg"/>
          <p:cNvPicPr/>
          <p:nvPr/>
        </p:nvPicPr>
        <p:blipFill>
          <a:blip r:embed="rId1"/>
          <a:stretch/>
        </p:blipFill>
        <p:spPr>
          <a:xfrm>
            <a:off x="4191120" y="31240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pressurized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ookman Old Style"/>
              </a:rPr>
              <a:t>describes when the pressure inside a container or room is different than the pressure outside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484D-15C8-4CB8-ACB1-D549DE9A6E2F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Filter-dwg-stage2.gif"/>
          <p:cNvPicPr/>
          <p:nvPr/>
        </p:nvPicPr>
        <p:blipFill>
          <a:blip r:embed="rId1"/>
          <a:stretch/>
        </p:blipFill>
        <p:spPr>
          <a:xfrm>
            <a:off x="4343400" y="3809880"/>
            <a:ext cx="21812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bleak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ookman Old Style"/>
              </a:rPr>
              <a:t>something that is bad and unlikely to improve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B530-842F-445E-930C-8D7E8BD81963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Cumulus_clouds_bleak.jpg"/>
          <p:cNvPicPr/>
          <p:nvPr/>
        </p:nvPicPr>
        <p:blipFill>
          <a:blip r:embed="rId1"/>
          <a:stretch/>
        </p:blipFill>
        <p:spPr>
          <a:xfrm>
            <a:off x="3581280" y="3352680"/>
            <a:ext cx="411480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agonizing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ookman Old Style"/>
              </a:rPr>
              <a:t>something that causes you to feel great physical or mental pain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513C-120A-4C91-9B8B-959670873444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agonizing.jpg"/>
          <p:cNvPicPr/>
          <p:nvPr/>
        </p:nvPicPr>
        <p:blipFill>
          <a:blip r:embed="rId1"/>
          <a:stretch/>
        </p:blipFill>
        <p:spPr>
          <a:xfrm>
            <a:off x="4419720" y="3429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irrelevant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ookman Old Style"/>
              </a:rPr>
              <a:t>something that is not important or connected with the present situation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EB44-5D32-4E60-B561-BB62CCE4C3E0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p249347-Monument_Valley_UT-An_irrelevant_sign.jpg"/>
          <p:cNvPicPr/>
          <p:nvPr/>
        </p:nvPicPr>
        <p:blipFill>
          <a:blip r:embed="rId1"/>
          <a:stretch/>
        </p:blipFill>
        <p:spPr>
          <a:xfrm>
            <a:off x="3733920" y="3733920"/>
            <a:ext cx="5410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emerged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ookman Old Style"/>
              </a:rPr>
              <a:t>to appear or come out from somewhere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0CB4-7B65-4B18-B8F5-487966B551DA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emerged from cave.jpg"/>
          <p:cNvPicPr/>
          <p:nvPr/>
        </p:nvPicPr>
        <p:blipFill>
          <a:blip r:embed="rId1"/>
          <a:stretch/>
        </p:blipFill>
        <p:spPr>
          <a:xfrm>
            <a:off x="3124080" y="3200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1:48:20Z</dcterms:created>
  <dc:creator>lhockenberry</dc:creator>
  <dc:description/>
  <dc:language>en-US</dc:language>
  <cp:lastModifiedBy>lhockenberry</cp:lastModifiedBy>
  <dcterms:modified xsi:type="dcterms:W3CDTF">2008-11-06T21:40:41Z</dcterms:modified>
  <cp:revision>3</cp:revision>
  <dc:subject/>
  <dc:title>"The Coal Mine Disaster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11671033</vt:lpwstr>
  </property>
</Properties>
</file>